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6.png" ContentType="image/pn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84DA-C3E2-40E4-AB47-DAB86D4F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AC2-50BB-4A0B-9411-F30AB4F0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7DA6-DEBE-4CB3-AABB-2FEFB22E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5B8-12D0-4439-B704-00D7B3AB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3F75-2A51-4575-ABE3-998EF71D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80A-34B9-4422-B2B2-7C6E4A19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BF6-4131-4BDF-B970-EB7C2A8A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164-1458-4EE2-9BFA-80D7D26F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09E-24F2-4DE6-8E12-A27EBB73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FDE-7BCD-40E2-A8CA-624E5AE3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75D-3571-4F19-BACB-9217B95A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F90C-C57C-4AF0-A08C-9A9E8AA6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F64F-FD66-43B1-ACCF-DE0BD0B6F0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Рисунок1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428920" y="1071720"/>
            <a:ext cx="5857920" cy="46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ий спосіб життя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C:\Documents and Settings\Admin\Рабочий стол\род. собрание\healthFood.jpg"/>
          <p:cNvPicPr/>
          <p:nvPr/>
        </p:nvPicPr>
        <p:blipFill>
          <a:blip r:embed="rId1"/>
          <a:stretch/>
        </p:blipFill>
        <p:spPr>
          <a:xfrm>
            <a:off x="857160" y="3429000"/>
            <a:ext cx="4000680" cy="2992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Documents and Settings\Admin\Рабочий стол\род. собрание\1439876905_2.jpg"/>
          <p:cNvPicPr/>
          <p:nvPr/>
        </p:nvPicPr>
        <p:blipFill>
          <a:blip r:embed="rId2"/>
          <a:stretch/>
        </p:blipFill>
        <p:spPr>
          <a:xfrm>
            <a:off x="4743360" y="428760"/>
            <a:ext cx="3971880" cy="285732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85880" y="92880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ціональн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чуван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5286240" y="3357720"/>
            <a:ext cx="3571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безпечує енергі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помагає підтримувати ідеальну ваг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C:\Documents and Settings\Admin\Рабочий стол\презентация конкурс\zdoroviy_sposib.jpg"/>
          <p:cNvPicPr/>
          <p:nvPr/>
        </p:nvPicPr>
        <p:blipFill>
          <a:blip r:embed="rId1"/>
          <a:stretch/>
        </p:blipFill>
        <p:spPr>
          <a:xfrm>
            <a:off x="4572000" y="3214800"/>
            <a:ext cx="4148280" cy="3263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Documents and Settings\Admin\Рабочий стол\презентация конкурс\zdor1.jpg"/>
          <p:cNvPicPr/>
          <p:nvPr/>
        </p:nvPicPr>
        <p:blipFill>
          <a:blip r:embed="rId2"/>
          <a:stretch/>
        </p:blipFill>
        <p:spPr>
          <a:xfrm>
            <a:off x="928800" y="357120"/>
            <a:ext cx="3929040" cy="285768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5500800" y="214200"/>
            <a:ext cx="314316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безпечує нормальний розвиток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uk-UA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міцнює імунітет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857160" y="3071880"/>
            <a:ext cx="414360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іпшує настрій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uk-UA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вить мозок, покращує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інтелектуальні здібності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785880" y="2857680"/>
            <a:ext cx="4786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житті так багато спокус!!! Але тільки ти можеш себе уберегти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Documents and Settings\Admin\Мои документы\Downloads\images (1).jpg"/>
          <p:cNvPicPr/>
          <p:nvPr/>
        </p:nvPicPr>
        <p:blipFill>
          <a:blip r:embed="rId1"/>
          <a:stretch/>
        </p:blipFill>
        <p:spPr>
          <a:xfrm>
            <a:off x="785880" y="357120"/>
            <a:ext cx="4529160" cy="2481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Admin\Мои документы\Downloads\podrostkovyj-vozrast.jpg"/>
          <p:cNvPicPr/>
          <p:nvPr/>
        </p:nvPicPr>
        <p:blipFill>
          <a:blip r:embed="rId2"/>
          <a:stretch/>
        </p:blipFill>
        <p:spPr>
          <a:xfrm>
            <a:off x="5500800" y="1785960"/>
            <a:ext cx="3214440" cy="3214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Documents and Settings\Admin\Мои документы\Downloads\загруженное (4).jpg"/>
          <p:cNvPicPr/>
          <p:nvPr/>
        </p:nvPicPr>
        <p:blipFill>
          <a:blip r:embed="rId3"/>
          <a:stretch/>
        </p:blipFill>
        <p:spPr>
          <a:xfrm>
            <a:off x="857160" y="4429080"/>
            <a:ext cx="4500720" cy="2014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C:\Documents and Settings\Admin\Рабочий стол\род. собрание\наркомания фото.jpg"/>
          <p:cNvPicPr/>
          <p:nvPr/>
        </p:nvPicPr>
        <p:blipFill>
          <a:blip r:embed="rId1"/>
          <a:stretch/>
        </p:blipFill>
        <p:spPr>
          <a:xfrm>
            <a:off x="785880" y="357120"/>
            <a:ext cx="342720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Admin\Рабочий стол\род. собрание\a46ccb90dfd65b3bf93eac2b189a7d46.jpg"/>
          <p:cNvPicPr/>
          <p:nvPr/>
        </p:nvPicPr>
        <p:blipFill>
          <a:blip r:embed="rId2"/>
          <a:stretch/>
        </p:blipFill>
        <p:spPr>
          <a:xfrm>
            <a:off x="5214960" y="4071960"/>
            <a:ext cx="3571920" cy="2382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Admin\Рабочий стол\презентация конкурс\30f40b8dd697ab3eb792be8aaa008c0f.jpg"/>
          <p:cNvPicPr/>
          <p:nvPr/>
        </p:nvPicPr>
        <p:blipFill>
          <a:blip r:embed="rId3"/>
          <a:stretch/>
        </p:blipFill>
        <p:spPr>
          <a:xfrm>
            <a:off x="785880" y="4143240"/>
            <a:ext cx="3535200" cy="2357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Documents and Settings\Admin\Рабочий стол\презентация конкурс\russia-teen-beer.jpg"/>
          <p:cNvPicPr/>
          <p:nvPr/>
        </p:nvPicPr>
        <p:blipFill>
          <a:blip r:embed="rId4"/>
          <a:stretch/>
        </p:blipFill>
        <p:spPr>
          <a:xfrm>
            <a:off x="5357880" y="357120"/>
            <a:ext cx="3429000" cy="2297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" descr="C:\Documents and Settings\Admin\Рабочий стол\презентация конкурс\38653205-어떤-마약-흡연-및-알코올-표시하지-않습니다.-벡터-일러스트-레이-션.jpg"/>
          <p:cNvPicPr/>
          <p:nvPr/>
        </p:nvPicPr>
        <p:blipFill>
          <a:blip r:embed="rId5"/>
          <a:stretch/>
        </p:blipFill>
        <p:spPr>
          <a:xfrm>
            <a:off x="3071880" y="2071800"/>
            <a:ext cx="3057480" cy="3057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Admin\Рабочий стол\род. собрание\10769.jpg"/>
          <p:cNvPicPr/>
          <p:nvPr/>
        </p:nvPicPr>
        <p:blipFill>
          <a:blip r:embed="rId1"/>
          <a:stretch/>
        </p:blipFill>
        <p:spPr>
          <a:xfrm>
            <a:off x="4143240" y="3500280"/>
            <a:ext cx="4453200" cy="2971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cuments and Settings\Admin\Рабочий стол\род. собрание\dd61c5c3ef356ee477258a05360369c8.jpg"/>
          <p:cNvPicPr/>
          <p:nvPr/>
        </p:nvPicPr>
        <p:blipFill>
          <a:blip r:embed="rId2"/>
          <a:stretch/>
        </p:blipFill>
        <p:spPr>
          <a:xfrm>
            <a:off x="4071960" y="428760"/>
            <a:ext cx="4500720" cy="3100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785880" y="285840"/>
            <a:ext cx="37148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ідсутність залежності від тютюну, алкоголю або наркотиків в майбутньому допоможе придбати хороших друзів і зайняти краще положення в суспільстві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1211653721_024"/>
          <p:cNvPicPr/>
          <p:nvPr/>
        </p:nvPicPr>
        <p:blipFill>
          <a:blip r:embed="rId1"/>
          <a:srcRect l="2702" t="0" r="0" b="0"/>
          <a:stretch/>
        </p:blipFill>
        <p:spPr>
          <a:xfrm>
            <a:off x="6072120" y="1214280"/>
            <a:ext cx="2743200" cy="211464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71680" y="2332080"/>
            <a:ext cx="76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541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бруднення довкілля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41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бруднення води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41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бруднення атмосфер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шування болі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е зроще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бування ліс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щення тварин, птахів і росл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івництво великих шах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ядерної збро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857160" y="274680"/>
            <a:ext cx="800100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Екологія і людин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96" name="WordArt 6" descr=""/>
          <p:cNvPicPr/>
          <p:nvPr/>
        </p:nvPicPr>
        <p:blipFill>
          <a:blip r:embed="rId2"/>
          <a:stretch/>
        </p:blipFill>
        <p:spPr>
          <a:xfrm>
            <a:off x="847800" y="1438200"/>
            <a:ext cx="5199120" cy="804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365955_3"/>
          <p:cNvPicPr/>
          <p:nvPr/>
        </p:nvPicPr>
        <p:blipFill>
          <a:blip r:embed="rId3"/>
          <a:stretch/>
        </p:blipFill>
        <p:spPr>
          <a:xfrm>
            <a:off x="5143680" y="3000240"/>
            <a:ext cx="2743200" cy="18637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98" name="Picture 7" descr="id10307_w200"/>
          <p:cNvPicPr/>
          <p:nvPr/>
        </p:nvPicPr>
        <p:blipFill>
          <a:blip r:embed="rId4"/>
          <a:stretch/>
        </p:blipFill>
        <p:spPr>
          <a:xfrm>
            <a:off x="6572160" y="4500720"/>
            <a:ext cx="2243160" cy="19810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p:transition spd="med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WordArt 8" descr=""/>
          <p:cNvPicPr/>
          <p:nvPr/>
        </p:nvPicPr>
        <p:blipFill>
          <a:blip r:embed="rId1"/>
          <a:stretch/>
        </p:blipFill>
        <p:spPr>
          <a:xfrm>
            <a:off x="1073160" y="347760"/>
            <a:ext cx="3359160" cy="6159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714240" y="1071720"/>
            <a:ext cx="5072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ргі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ункціональн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ушення  кровоносної систе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іпертонічна хворо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к леген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C:\Documents and Settings\Admin\Рабочий стол\презентация конкурс\residency.jpg"/>
          <p:cNvPicPr/>
          <p:nvPr/>
        </p:nvPicPr>
        <p:blipFill>
          <a:blip r:embed="rId6"/>
          <a:stretch/>
        </p:blipFill>
        <p:spPr>
          <a:xfrm>
            <a:off x="4786200" y="857160"/>
            <a:ext cx="4000680" cy="2857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C:\Documents and Settings\Admin\Рабочий стол\презентация конкурс\allergija-na-citrusovyje-prichiny-simptomy-lechenije.jpg"/>
          <p:cNvPicPr/>
          <p:nvPr/>
        </p:nvPicPr>
        <p:blipFill>
          <a:blip r:embed="rId7"/>
          <a:stretch/>
        </p:blipFill>
        <p:spPr>
          <a:xfrm>
            <a:off x="4857840" y="3857760"/>
            <a:ext cx="3502080" cy="2433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C:\Documents and Settings\Admin\Рабочий стол\презентация конкурс\518456ab103a4fe052372db2a25af054.jpg"/>
          <p:cNvPicPr/>
          <p:nvPr/>
        </p:nvPicPr>
        <p:blipFill>
          <a:blip r:embed="rId8"/>
          <a:stretch/>
        </p:blipFill>
        <p:spPr>
          <a:xfrm>
            <a:off x="857160" y="4000680"/>
            <a:ext cx="3586320" cy="2381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C:\Documents and Settings\Admin\Рабочий стол\презентация конкурс\goluboe-nebo-raduga.jpg"/>
          <p:cNvPicPr/>
          <p:nvPr/>
        </p:nvPicPr>
        <p:blipFill>
          <a:blip r:embed="rId1"/>
          <a:stretch/>
        </p:blipFill>
        <p:spPr>
          <a:xfrm>
            <a:off x="785880" y="285840"/>
            <a:ext cx="8001000" cy="62863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857160" y="857160"/>
            <a:ext cx="7858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72880"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Зменшення впливу людини на довкіл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ідновлення пошкоджених зем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ціональне використання природних ресурс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ворення безвідходних виробницт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звиток екологічної освіти й культури насел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785880" y="357120"/>
            <a:ext cx="807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рішення проблем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C:\Documents and Settings\Admin\Рабочий стол\презентация конкурс\image.jpg"/>
          <p:cNvPicPr/>
          <p:nvPr/>
        </p:nvPicPr>
        <p:blipFill>
          <a:blip r:embed="rId1"/>
          <a:stretch/>
        </p:blipFill>
        <p:spPr>
          <a:xfrm>
            <a:off x="857160" y="428760"/>
            <a:ext cx="7875720" cy="5916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Admin\Рабочий стол\презентация конкурс\zdorov_sposib.jpg"/>
          <p:cNvPicPr/>
          <p:nvPr/>
        </p:nvPicPr>
        <p:blipFill>
          <a:blip r:embed="rId1"/>
          <a:stretch/>
        </p:blipFill>
        <p:spPr>
          <a:xfrm>
            <a:off x="865080" y="1166760"/>
            <a:ext cx="7921800" cy="5334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714240" y="28584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доровий спосіб житт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:\Documents and Settings\Admin\Рабочий стол\презентация конкурс\arton256.jpg"/>
          <p:cNvPicPr/>
          <p:nvPr/>
        </p:nvPicPr>
        <p:blipFill>
          <a:blip r:embed="rId1"/>
          <a:stretch/>
        </p:blipFill>
        <p:spPr>
          <a:xfrm>
            <a:off x="1571760" y="285840"/>
            <a:ext cx="621504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Admin\Рабочий стол\род. собрание\590.jpg"/>
          <p:cNvPicPr/>
          <p:nvPr/>
        </p:nvPicPr>
        <p:blipFill>
          <a:blip r:embed="rId1"/>
          <a:stretch/>
        </p:blipFill>
        <p:spPr>
          <a:xfrm>
            <a:off x="857160" y="3714840"/>
            <a:ext cx="4475160" cy="2641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Admin\Рабочий стол\род. собрание\Startseite-Fotolia_17891869_M-1024x682.jpg"/>
          <p:cNvPicPr/>
          <p:nvPr/>
        </p:nvPicPr>
        <p:blipFill>
          <a:blip r:embed="rId2"/>
          <a:stretch/>
        </p:blipFill>
        <p:spPr>
          <a:xfrm>
            <a:off x="857160" y="428760"/>
            <a:ext cx="4357800" cy="290196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429160" y="214200"/>
            <a:ext cx="3429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Умови для формування здорового способу житт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- Щира дружба дітей і батьк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- Сприятливий моральний клімат в роди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-Увага до стану здоров'я всіх членів сім'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4929120" y="3714840"/>
            <a:ext cx="38577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триманн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жиму дня - важлива умова для формування здорового способу житт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\Рабочий стол\презентация конкурс\-2-638.jpg"/>
          <p:cNvPicPr/>
          <p:nvPr/>
        </p:nvPicPr>
        <p:blipFill>
          <a:blip r:embed="rId1"/>
          <a:stretch/>
        </p:blipFill>
        <p:spPr>
          <a:xfrm>
            <a:off x="4214880" y="357120"/>
            <a:ext cx="4656240" cy="349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Admin\Рабочий стол\презентация конкурс\6853c69018c129b460be4439e9ee8aa72be90291.jpeg"/>
          <p:cNvPicPr/>
          <p:nvPr/>
        </p:nvPicPr>
        <p:blipFill>
          <a:blip r:embed="rId2"/>
          <a:stretch/>
        </p:blipFill>
        <p:spPr>
          <a:xfrm>
            <a:off x="857160" y="3446640"/>
            <a:ext cx="4071960" cy="305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Admin\Рабочий стол\презентация конкурс\bffc804ec570731793ec32f437417014-200x280.png"/>
          <p:cNvPicPr/>
          <p:nvPr/>
        </p:nvPicPr>
        <p:blipFill>
          <a:blip r:embed="rId3"/>
          <a:stretch/>
        </p:blipFill>
        <p:spPr>
          <a:xfrm>
            <a:off x="1500120" y="50004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14240" y="2571840"/>
            <a:ext cx="8072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хова активність і перебування на свіжому повітрі - ось що повинно складати основу відпочинку. Це заняття фізичною культурою,  виїзди на природу, на річку, відвідування цікавих місць, поїздки та екскурсії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І це не тільки формує здоровий спосіб життя, а й згуртовує сім'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Admin\Рабочий стол\презентация конкурс\966270636.jpg"/>
          <p:cNvPicPr/>
          <p:nvPr/>
        </p:nvPicPr>
        <p:blipFill>
          <a:blip r:embed="rId1"/>
          <a:stretch/>
        </p:blipFill>
        <p:spPr>
          <a:xfrm>
            <a:off x="1143000" y="428760"/>
            <a:ext cx="3251160" cy="214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Admin\Рабочий стол\презентация конкурс\depositphotos_36044813-stock-photo-happy-family-walking-under-the.jpg"/>
          <p:cNvPicPr/>
          <p:nvPr/>
        </p:nvPicPr>
        <p:blipFill>
          <a:blip r:embed="rId2"/>
          <a:stretch/>
        </p:blipFill>
        <p:spPr>
          <a:xfrm>
            <a:off x="5000760" y="428760"/>
            <a:ext cx="3322440" cy="2190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Admin\Рабочий стол\презентация конкурс\velosypednie_progulky.jpg"/>
          <p:cNvPicPr/>
          <p:nvPr/>
        </p:nvPicPr>
        <p:blipFill>
          <a:blip r:embed="rId3"/>
          <a:stretch/>
        </p:blipFill>
        <p:spPr>
          <a:xfrm>
            <a:off x="1143000" y="4233960"/>
            <a:ext cx="3143160" cy="2212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Documents and Settings\Admin\Рабочий стол\презентация конкурс\phoca_thumb_l_20170804-20170804-5489.jpg"/>
          <p:cNvPicPr/>
          <p:nvPr/>
        </p:nvPicPr>
        <p:blipFill>
          <a:blip r:embed="rId4"/>
          <a:stretch/>
        </p:blipFill>
        <p:spPr>
          <a:xfrm>
            <a:off x="5000760" y="4214880"/>
            <a:ext cx="3322440" cy="221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1" descr="C:\Documents and Settings\Admin\Рабочий стол\презентация конкурс\hqdefault.jpg"/>
          <p:cNvPicPr/>
          <p:nvPr/>
        </p:nvPicPr>
        <p:blipFill>
          <a:blip r:embed="rId1"/>
          <a:stretch/>
        </p:blipFill>
        <p:spPr>
          <a:xfrm>
            <a:off x="928800" y="4214880"/>
            <a:ext cx="3071880" cy="2214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C:\Documents and Settings\Admin\Рабочий стол\презентация конкурс\fiz.jpg"/>
          <p:cNvPicPr/>
          <p:nvPr/>
        </p:nvPicPr>
        <p:blipFill>
          <a:blip r:embed="rId2"/>
          <a:stretch/>
        </p:blipFill>
        <p:spPr>
          <a:xfrm>
            <a:off x="5429160" y="357120"/>
            <a:ext cx="3233880" cy="21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C:\Documents and Settings\Admin\Рабочий стол\презентация конкурс\utrennyaya-gimnastika_2.jpg"/>
          <p:cNvPicPr/>
          <p:nvPr/>
        </p:nvPicPr>
        <p:blipFill>
          <a:blip r:embed="rId3"/>
          <a:stretch/>
        </p:blipFill>
        <p:spPr>
          <a:xfrm>
            <a:off x="5500800" y="4214880"/>
            <a:ext cx="3214440" cy="2219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C:\Documents and Settings\Admin\Рабочий стол\презентация конкурс\img_8079.jpg"/>
          <p:cNvPicPr/>
          <p:nvPr/>
        </p:nvPicPr>
        <p:blipFill>
          <a:blip r:embed="rId4"/>
          <a:stretch/>
        </p:blipFill>
        <p:spPr>
          <a:xfrm>
            <a:off x="857160" y="357120"/>
            <a:ext cx="314352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C:\Documents and Settings\Admin\Рабочий стол\презентация конкурс\eCpb5n_5rL0.jpg"/>
          <p:cNvPicPr/>
          <p:nvPr/>
        </p:nvPicPr>
        <p:blipFill>
          <a:blip r:embed="rId5"/>
          <a:stretch/>
        </p:blipFill>
        <p:spPr>
          <a:xfrm>
            <a:off x="2786040" y="22860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15"/>
          <p:cNvSpPr/>
          <p:nvPr/>
        </p:nvSpPr>
        <p:spPr>
          <a:xfrm>
            <a:off x="785880" y="2643120"/>
            <a:ext cx="2143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бхідно формувати звичку щодня виконува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6"/>
          <p:cNvSpPr/>
          <p:nvPr/>
        </p:nvSpPr>
        <p:spPr>
          <a:xfrm>
            <a:off x="6143760" y="2643120"/>
            <a:ext cx="26431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нкову гімнастику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C:\Documents and Settings\Admin\Рабочий стол\презентация конкурс\image076.jpg"/>
          <p:cNvPicPr/>
          <p:nvPr/>
        </p:nvPicPr>
        <p:blipFill>
          <a:blip r:embed="rId1"/>
          <a:stretch/>
        </p:blipFill>
        <p:spPr>
          <a:xfrm>
            <a:off x="857160" y="480960"/>
            <a:ext cx="7908840" cy="585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Admin\Рабочий стол\презентация конкурс\Гігієна.gif"/>
          <p:cNvPicPr/>
          <p:nvPr/>
        </p:nvPicPr>
        <p:blipFill>
          <a:blip r:embed="rId2"/>
          <a:stretch/>
        </p:blipFill>
        <p:spPr>
          <a:xfrm>
            <a:off x="7358040" y="5072040"/>
            <a:ext cx="992160" cy="857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Admin\Рабочий стол\презентация конкурс\foto_lichnaya_gigiena.jpg"/>
          <p:cNvPicPr/>
          <p:nvPr/>
        </p:nvPicPr>
        <p:blipFill>
          <a:blip r:embed="rId3"/>
          <a:stretch/>
        </p:blipFill>
        <p:spPr>
          <a:xfrm>
            <a:off x="2357280" y="357120"/>
            <a:ext cx="144972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Documents and Settings\Admin\Рабочий стол\презентация конкурс\b95408edfcec824d03dcf615750f1364.jpg"/>
          <p:cNvPicPr/>
          <p:nvPr/>
        </p:nvPicPr>
        <p:blipFill>
          <a:blip r:embed="rId4"/>
          <a:stretch/>
        </p:blipFill>
        <p:spPr>
          <a:xfrm>
            <a:off x="928800" y="5429160"/>
            <a:ext cx="1357200" cy="102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Admin\Рабочий стол\презентация конкурс\-3-638.jpg"/>
          <p:cNvPicPr/>
          <p:nvPr/>
        </p:nvPicPr>
        <p:blipFill>
          <a:blip r:embed="rId1"/>
          <a:stretch/>
        </p:blipFill>
        <p:spPr>
          <a:xfrm>
            <a:off x="857160" y="357120"/>
            <a:ext cx="7747200" cy="458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Documents and Settings\Admin\Рабочий стол\презентация конкурс\zakalivanie-organizma-i-immunitet.jpg"/>
          <p:cNvPicPr/>
          <p:nvPr/>
        </p:nvPicPr>
        <p:blipFill>
          <a:blip r:embed="rId2"/>
          <a:stretch/>
        </p:blipFill>
        <p:spPr>
          <a:xfrm>
            <a:off x="5000760" y="1143000"/>
            <a:ext cx="3454200" cy="2665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Documents and Settings\Admin\Рабочий стол\презентация конкурс\767681.jpg"/>
          <p:cNvPicPr/>
          <p:nvPr/>
        </p:nvPicPr>
        <p:blipFill>
          <a:blip r:embed="rId3"/>
          <a:stretch/>
        </p:blipFill>
        <p:spPr>
          <a:xfrm>
            <a:off x="5786280" y="4286160"/>
            <a:ext cx="2378160" cy="2203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Documents and Settings\Admin\Рабочий стол\презентация конкурс\60094462.jpg"/>
          <p:cNvPicPr/>
          <p:nvPr/>
        </p:nvPicPr>
        <p:blipFill>
          <a:blip r:embed="rId4"/>
          <a:stretch/>
        </p:blipFill>
        <p:spPr>
          <a:xfrm>
            <a:off x="2143080" y="5000760"/>
            <a:ext cx="2428920" cy="1466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Светлана</cp:lastModifiedBy>
  <dcterms:modified xsi:type="dcterms:W3CDTF">2022-01-04T09:13:40Z</dcterms:modified>
  <cp:revision>138</cp:revision>
  <dc:subject/>
  <dc:title>Слайд 1</dc:title>
</cp:coreProperties>
</file>